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607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1F5-3466-463C-A412-A1B1BD22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AA3-F656-48D6-BC1B-5A62B7B8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29E-0BBC-4652-B21F-D59644B6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0268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9476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060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10268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99476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B9E-BAA8-4E2C-9B82-BA711C83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B9E-4E0C-44C9-8D1D-0B9F9071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718-071E-4554-BBB9-1C1C9A56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8C5-16F7-4E56-939A-7B9F851E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3C7-B560-44A8-96C8-1600983F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600" y="382320"/>
            <a:ext cx="263844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DBE-83AD-4250-A817-1EA6ACF7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8A8-1979-4C43-832B-99809D3D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B46-471C-4EFE-8DC2-B28EB3CF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D7B2-7BCD-455F-909F-6E8B3A89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32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3496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0960" y="6671880"/>
            <a:ext cx="68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4480" y="6671880"/>
            <a:ext cx="1031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1800" y="6671880"/>
            <a:ext cx="687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123B6-C822-41C5-BE28-C73F75E9DF71}" type="slidenum">
              <a:rPr b="0" lang="es-ES" sz="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think-cell data - do not delete" descr=""/>
          <p:cNvPicPr/>
          <p:nvPr/>
        </p:nvPicPr>
        <p:blipFill>
          <a:blip r:embed="rId2"/>
          <a:stretch/>
        </p:blipFill>
        <p:spPr>
          <a:xfrm>
            <a:off x="0" y="1440"/>
            <a:ext cx="360" cy="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hink-cell data - do not delete" descr=""/>
          <p:cNvPicPr/>
          <p:nvPr/>
        </p:nvPicPr>
        <p:blipFill>
          <a:blip r:embed="rId1"/>
          <a:stretch/>
        </p:blipFill>
        <p:spPr>
          <a:xfrm>
            <a:off x="-1376856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934920" y="6611760"/>
            <a:ext cx="2125800" cy="208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-4680" y="6888240"/>
            <a:ext cx="32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Gill Sans MT"/>
                <a:ea typeface="Arial"/>
              </a:rPr>
              <a:t>Consejería</a:t>
            </a:r>
            <a:r>
              <a:rPr b="0" lang="es-ES" sz="400" spc="-1" strike="noStrike">
                <a:solidFill>
                  <a:srgbClr val="ffffff"/>
                </a:solidFill>
                <a:latin typeface="Gill Sans MT"/>
                <a:ea typeface="Arial"/>
              </a:rPr>
              <a:t> d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ffffff"/>
                </a:solidFill>
                <a:latin typeface="Gill Sans MT"/>
                <a:ea typeface="Arial"/>
              </a:rPr>
              <a:t>XXX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4" descr=""/>
          <p:cNvPicPr/>
          <p:nvPr/>
        </p:nvPicPr>
        <p:blipFill>
          <a:blip r:embed="rId3"/>
          <a:stretch/>
        </p:blipFill>
        <p:spPr>
          <a:xfrm>
            <a:off x="0" y="6888240"/>
            <a:ext cx="3060720" cy="312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49320" y="687384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Gill Sans MT"/>
                <a:ea typeface="Arial"/>
              </a:rPr>
              <a:t>Consejería d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Gill Sans MT"/>
                <a:ea typeface="Arial"/>
              </a:rPr>
              <a:t>XX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7T08:08:51Z</dcterms:created>
  <dc:creator>Calviño Gonzalez, Maria</dc:creator>
  <dc:description/>
  <dc:language>en-US</dc:language>
  <cp:lastModifiedBy>Calviño Gonzalez, Maria</cp:lastModifiedBy>
  <dcterms:modified xsi:type="dcterms:W3CDTF">2025-06-11T13:32:21Z</dcterms:modified>
  <cp:revision>11</cp:revision>
  <dc:subject/>
  <dc:title>PowerPoint Presentation</dc:title>
</cp:coreProperties>
</file>